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2842-E1CE-447C-AA92-6ED7AD17D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3E79E-0E8F-4B3A-8DDB-DF3ACA83E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8CD6D-9E2D-4CAF-8422-8306AC7F0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1BD40-3F82-4EC9-BD55-952E781EA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7FF5C-AB5D-4EFA-B70F-6A9270DDE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2CBA2-A380-4A85-89FD-5E2F2F0ED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D05A-9101-41F0-9655-1ABE02DE9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289-1993-465C-90CE-9C5FA12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15D-39AF-4BD5-B7B1-6B027B4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856-7893-4059-B8C6-A236A06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4DA-0912-42C6-B3C8-D92E097E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75D-99DC-4320-B58C-4D52FB5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4C1-3D04-4DBA-9919-CF714674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DF3-2FBD-4342-8C7E-DF7F192F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68B-B9D0-42CA-ADA3-157D9003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594-6350-40D6-B79A-C8EFF26F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64A-DDA8-407F-8483-CA1D3F2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185-1DB7-4134-9B0D-63B187C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BA1-6E40-4A4C-98E7-A0C151A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1B6A7-DF3B-4B3C-8BC2-7B37A635AE2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alism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16080" y="4541760"/>
            <a:ext cx="2361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hodes Coloss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azine, 18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litical cartoon depicts British imperialist Cecil Rhodes striding across the continent of Africa, holding a telegraph w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68360" y="1112400"/>
            <a:ext cx="91058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definition for this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people of a common ethnicity or culture should have sovereignty (independent, self-rule) over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definition for nation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1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dea drives people to act in the interest of their perceived nation, and sometimes to think less of those belonging to other national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6080" y="1767960"/>
            <a:ext cx="94485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y of extending a country’s power and influence through military force or diplo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idea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the Roman Empire or other empire-building civilization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total colonial control over another territory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rough a range of “soft power” methods like ownership of private industries in a foreign terr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90676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320" y="1265040"/>
            <a:ext cx="921996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ne country establishes control over another territory for the political or economic benefit of the colonizing (“mother”)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r colon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many people from the “mother” country move to live in the colony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U.S. or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a smaller number of people from the colonizing country act as administrators over the native population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British Raj in India in th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differences between imperialism and colon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losely related, and we sometimes use them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mper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lon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 powerful country dominating weak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 Lambek</cp:lastModifiedBy>
  <dcterms:modified xsi:type="dcterms:W3CDTF">2017-11-16T13:58:46Z</dcterms:modified>
  <cp:revision>14</cp:revision>
  <dc:subject/>
  <dc:title>Unit 2:  Colonization, Imperialism, and Independence</dc:title>
</cp:coreProperties>
</file>